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414-D58A-4A72-9875-7A868AF7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0C-88B6-4EDE-AE5D-D85A7CB4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50F-2D73-4A36-9DB1-CBC52A5A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EE7-CB6C-423D-8D53-C1F4A49E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D76C-E484-4FB7-ABCF-A9B728EF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E1D-62AF-4CC2-97E3-68870C21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134A-66B2-4009-A9D2-E534E2F7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F88C-857E-43C7-9C04-8C52DFC1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992D-586F-4C31-9525-380E197C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7C47-D87D-46EF-817C-05EA637F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2EA-6A83-41E8-B785-C7A428C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8F1-4179-4774-9B6A-186F8842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DBF4-C942-40CC-B790-9F72D95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F520-EE38-47AB-ADE3-FBAFB19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6759-1B68-4C53-BF3E-37D2E51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311-DDA2-4391-902B-1EBF7755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8C38-58D8-44D2-9733-2AC8C8C3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C4CE-1475-4826-A6E3-03301706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06620-7F9E-4447-9C8B-514A135B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695D-95D1-4E11-AA5C-2C1C5A8A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107F-58F7-477F-B00E-1EE2597D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67B9-0C1B-4E85-B218-DD4CBF67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B31-A35E-4A49-B029-9520043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64AE-AD58-4418-97C5-5E6C335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5CD9-B973-45A6-BF06-D24505DE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8244-54D2-4B79-924B-D197CB7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D2C9-3644-4D79-82B1-E146098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8EB2-7257-4DB5-9A9A-474A4603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203F-172A-4FAE-9D0A-720D6BD3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6850-9EAA-4302-AA83-23C93FCA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B142-6D69-4135-B24E-A87A5B16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4F28-9D52-42E2-A2C1-20E280E4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040E-7C69-4B99-8E63-A9C58E35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DC6-719E-4ABB-B227-FB01D3D4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4B72-ECE0-4F66-8CE8-3A478C0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6B74-92F8-43F8-B102-F60ECAB1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AEE8-C2A5-44E2-8796-38CFA1FD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27E1-F63A-473E-9294-7B52F66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602E-F4A1-4DAC-AD10-A0EB534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1B923-798C-47AF-9171-A341A36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2BD3-EA33-4958-ADD0-DEEA19E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07EB-5263-417D-B4CD-447085E8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C9DB-A6A4-48E0-8CA6-6B10C8AC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E07-6D3B-4B8A-AD6A-9D0E841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FE1-3184-4144-A486-83BAFC4A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12E-0034-4A56-88A0-A0C56435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BFE-95F1-4557-87CA-FFC954B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A90-8A51-434C-B9CD-244BF40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844-0B96-4F8D-99C1-469361A880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DD1C-91A6-41F7-8BCF-BBB3BFE81D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34FF-A228-4127-8716-0E983D896C8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2484-31DB-4978-888B-03C68F837E8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this unit students will be able to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amplitude, period and phase shift of a trigonometric equation or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graph of a trigonometric eq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equation given a sin/cosine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ve real world problems using a sinusoidal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their own sinusoidal application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iculum Fram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:    How do patterns affect 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:  Which trigonometric function should I use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l this situation and 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situation that can be modeled using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usoidal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ent:  What is the equation of the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graph of this eq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l world conn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ean tides—students graph depth of the tides at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egon co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—students collect and graph the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 over 24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is wheel—students graph their height as they r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rris whe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—students collect and analyze their he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t rest, after exercising, after drin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ffeinated bever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heart rate monitors to collect data on:   resting heart rat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exercis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drinking a caffeinated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google form to post reflections about their understanding of classroom 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choose an occupation in wh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ing heart rate is an essential t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tor, trainer, nurse, paramedic, athlet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will choose a layout format and creat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ument explaining how heart rate is used 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ir occup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mphlet, poster, web sit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34Z</dcterms:created>
  <dc:creator>Lab1</dc:creator>
  <dc:description/>
  <dc:language>en-US</dc:language>
  <cp:lastModifiedBy>Lab1</cp:lastModifiedBy>
  <dcterms:modified xsi:type="dcterms:W3CDTF">2010-08-06T14:50:35Z</dcterms:modified>
  <cp:revision>9</cp:revision>
  <dc:subject/>
  <dc:title>Sinusoidal Graphs</dc:title>
</cp:coreProperties>
</file>